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CFB-0128-40D1-BBA9-54B35A71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832-966F-4FBD-B2B4-B21DB9F7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662-EE36-4338-8EC0-8E75FCD9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1EA-9C28-4619-95B2-08330B3C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218-6CC0-4618-B555-09A67422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C5E-1878-42A8-B10A-8153F82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F42-79B2-4B91-838E-FD269E4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16F-A21A-4442-A168-60983D1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176-B64B-4D4F-A941-DF5A1B4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0D0-B9E1-420F-AFF4-EE3C75E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6AE-D245-46A3-8231-C5A484B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3CF-D52B-424E-BB75-FDAE1A9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71BD7-CE04-42FA-91E1-338E04265A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1320840"/>
            <a:ext cx="7380360" cy="49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velho cã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1260360"/>
            <a:ext cx="91803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elha senhora foi para um safári na África e levou seu velho vira-lata com 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dia, caçando borboletas, o velho cão, de repente, deu-se conta de que estava perd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gando a esmo, procurando o caminho de volta, o velho cão percebe que um jovem leopardo o viu e caminha em sua direção, com intenção de conseguir um bom almoç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chorro velho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"Oh, oh! Estou mesmo enrascado ! Olhou à volta e viu ossos espalhados no chão por perto. Em vez de apavorar-se mais ainda, o velho cão ajeita-se junto ao osso mais próximo, e começa a roê-lo, dando as costas ao predad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leopardo estava aponto de dar o bote, o velho cachorro exclama bem al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11600" y="6049800"/>
            <a:ext cx="23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360360"/>
            <a:ext cx="9180360" cy="64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, este leopardo estava delicioso ! Será que há outros por aí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vindo isso, o jovem leopardo, com um arrepio de terror, suspende seu ataque já quase começado, e se esgueira na direção das árv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Caramba! pensa o leopardo, essa foi por pouco ! O velho vira-lata quase me peg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macaco, numa árvore ali perto, viu toda a cena e logo imaginou como fazer bom uso do que vira: em troca de proteção para si, informaria ao predador que o vira-lata não havia comido leopardo algum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ssim foi, rápido, em direção ao leopardo. Mas o velho cachorro o vê correndona direção do predador em grande velocidade, e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4500720"/>
            <a:ext cx="2880000" cy="224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84840" y="4859280"/>
            <a:ext cx="285444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0400" y="900000"/>
            <a:ext cx="91299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í tem cois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acaco logo alcança o felino, cochicha-lhe o que interessa e faz um acordocom o leopar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jovem leopardo fica furioso por ter sido feito de bobo, e diz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"Aí, macaco! Suba nas minhas costas para você ver o que acontece com aquele cachorro abusado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ora, o velho cachorro vê um leopardo furioso, vindo em sua direção, com ummacaco nas costas, e pen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E agora, o que é que eu posso fazer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, em vez de correr (sabe que suas pernas doídas não o levariam longe...), o cachorro senta, mais uma vez dando costas aos agressores, fazendo de conta que ainda não os viu, e quando estavam perto o bastante para ouvi-lo, o velho cão di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80000" y="540072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9280" y="5400720"/>
            <a:ext cx="251928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00360" y="2519280"/>
            <a:ext cx="540072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39640"/>
            <a:ext cx="94014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Cadê o safado daquele macaco? Estou com fome! Eu o mandei buscar outro leopardo para mim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ral da história: não mexa com cachorro velho... idade e habilidade se sobrepõem à juventude e intriga. Sabedoria só vem com idade e experi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2Z</dcterms:created>
  <dc:creator/>
  <dc:description/>
  <dc:language>en-US</dc:language>
  <cp:lastModifiedBy/>
  <cp:revision>1</cp:revision>
  <dc:subject/>
  <dc:title/>
</cp:coreProperties>
</file>